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879-1961-4986-827E-B7EC8FC6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C78-063D-4294-9F2D-640A04E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B5A-54FF-4B18-9085-D8E79D8B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168-E88B-4BC0-9E82-54003A92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E47-8E41-4D5B-AF56-1D494A05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F65-CFB9-4223-A3C9-50E61B6D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B68-13D1-40F8-B8A0-5B62F85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F8C-76A5-467C-B5BC-871601D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751-F144-4149-8E92-09AF979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20A-08C4-4F53-A065-14F6E60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B03-A88B-4084-BE1D-73E3938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4A9-3B2B-4CEF-8083-3675DFF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73F33-0B31-48EE-ADDE-2164E39B82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A4C58-76AE-44EA-BABD-A11F40D64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the ESIP Discovery 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 Lynnes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44600" y="0"/>
            <a:ext cx="833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39560" y="0"/>
            <a:ext cx="833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Discovery 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weight process based on Discovery Change Proposals (DC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comm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v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t Resource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ho you gonna cal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IP Federated Search:  Chris Lynnes,Hook Hua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Construction:  Hook Hua, Chris Mattma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casting:  Brian Wilson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-level Datacasting:  Andy Bingham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on-Level Datacasting: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Discovery Cluster Work 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s of finding data and services matching users’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echnologies with similar 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:  OpenSearch (opensearch.or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Federated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ted:  each provider responds to search requests for their hol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on OpenSearch (www.opensearch.or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llection of simple formats for the sharing of search resul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OpenSearch Description Document (XM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s syntax and semantics of REST-style 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IP Conventions for Federated 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Atom format (RSS under consider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ion of draft geospatial and time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for recursive searching with Open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2-step search:  dataset, then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ntifiers for data links, metadata link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943600" y="2065320"/>
            <a:ext cx="1676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set Direc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0832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867280" y="46562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Search Prov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AutoShape 7"/>
          <p:cNvCxnSpPr>
            <a:stCxn id="50" idx="0"/>
            <a:endCxn id="49" idx="1"/>
          </p:cNvCxnSpPr>
          <p:nvPr/>
        </p:nvCxnSpPr>
        <p:spPr>
          <a:xfrm flipH="1" flipV="1" rot="5400000">
            <a:off x="3196800" y="462240"/>
            <a:ext cx="729360" cy="47631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3" name="AutoShape 8"/>
          <p:cNvCxnSpPr>
            <a:stCxn id="49" idx="1"/>
            <a:endCxn id="50" idx="3"/>
          </p:cNvCxnSpPr>
          <p:nvPr/>
        </p:nvCxnSpPr>
        <p:spPr>
          <a:xfrm flipV="1" rot="10800000">
            <a:off x="1675800" y="2478600"/>
            <a:ext cx="4267800" cy="959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4" name="AutoShape 9"/>
          <p:cNvSpPr/>
          <p:nvPr/>
        </p:nvSpPr>
        <p:spPr>
          <a:xfrm>
            <a:off x="3200400" y="2979720"/>
            <a:ext cx="1676520" cy="1254960"/>
          </a:xfrm>
          <a:prstGeom prst="flowChartDocumen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penSearch Description 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752480" y="2141640"/>
            <a:ext cx="1447920" cy="703800"/>
          </a:xfrm>
          <a:prstGeom prst="flowChartProcess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penSearch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AutoShape 11"/>
          <p:cNvCxnSpPr>
            <a:stCxn id="54" idx="3"/>
            <a:endCxn id="51" idx="0"/>
          </p:cNvCxnSpPr>
          <p:nvPr/>
        </p:nvCxnSpPr>
        <p:spPr>
          <a:xfrm>
            <a:off x="4876560" y="3610080"/>
            <a:ext cx="2057760" cy="104688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AutoShape 12"/>
          <p:cNvCxnSpPr>
            <a:stCxn id="50" idx="2"/>
            <a:endCxn id="51" idx="1"/>
          </p:cNvCxnSpPr>
          <p:nvPr/>
        </p:nvCxnSpPr>
        <p:spPr>
          <a:xfrm flipH="1" rot="16200000">
            <a:off x="2822400" y="2026440"/>
            <a:ext cx="1402560" cy="4686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8" name="AutoShape 13"/>
          <p:cNvSpPr/>
          <p:nvPr/>
        </p:nvSpPr>
        <p:spPr>
          <a:xfrm>
            <a:off x="2133720" y="4275000"/>
            <a:ext cx="1447560" cy="703800"/>
          </a:xfrm>
          <a:prstGeom prst="flowChartProcess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penSearch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Step Open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d Service 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ing is the dissemination of news through subscription-based syndication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Atom, RSS, or any other syndication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ies contain enough information for subscribers to access the service o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 feeds can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of available data coll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of files available for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of services (OPeNDAP, OGC, WM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04640" y="542880"/>
            <a:ext cx="3754440" cy="46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022640" y="3230640"/>
            <a:ext cx="4867200" cy="3548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403880" y="5526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cribe to RSS, GeoRSS and DatacastingRSS f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er feeds for a specific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feed correlation to create a mashup of data and information related to the sam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-download of releva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5489640"/>
            <a:ext cx="34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ry of GeoRSS and DatacastingRSS fe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3498840" y="-13500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casting at JP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from NSIDC’s 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41360" y="441360"/>
            <a:ext cx="8331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633760" y="-13500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casting at NSID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8:35:32Z</dcterms:created>
  <dc:creator>Christopher Lynnes</dc:creator>
  <dc:description/>
  <dc:language>en-US</dc:language>
  <cp:lastModifiedBy>Christopher Lynnes</cp:lastModifiedBy>
  <dcterms:modified xsi:type="dcterms:W3CDTF">2011-07-25T18:58:28Z</dcterms:modified>
  <cp:revision>8</cp:revision>
  <dc:subject/>
  <dc:title>Introduction to the ESIP Discovery Cluster</dc:title>
</cp:coreProperties>
</file>